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D7F-160B-4881-9882-5C700F74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44E-8A41-4ACC-920D-46A5F9D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47E-251C-459B-8840-70907378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361-98C1-4E44-8043-EE150E6C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B785-C912-4442-A131-76A0B8E5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E19C-0157-4A53-B4BC-4413220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588-83D7-4298-9039-ED2D7113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32B2-01E6-4540-B91F-229F725B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3F4-A261-4540-AD97-570F0E0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E5C-B40A-434A-9865-4C0F16F1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FF9-ED9D-4021-8DAC-B41BDC9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047-78D1-49EA-894F-AAFBD7B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63D0-3BAB-4316-A66D-9C00C6E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A2F8-D322-47B4-B1F0-6AE614F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0AC5-D8CA-4003-B945-C777C0FA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BC2B-9EF1-4C54-8F0E-493F3E0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3DDC-BEB8-400F-B549-AA14A1D2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A00-4C23-4BBB-ABA2-7316EFD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545-99D4-4856-A160-0F954E4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C8B-BA5D-4467-82FE-1CA7C19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108-E9DB-4B7F-AA30-8025EC95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7FE-1433-4089-ACBF-BD376CD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653-84FD-41A7-8286-B671030D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8CB-3421-42FC-90C2-31CF54F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D3ED-9762-4826-976E-49FB394694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96E-30DB-4E99-8443-0F87ED2156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rugosvet.ru/" TargetMode="External"/><Relationship Id="rId2" Type="http://schemas.openxmlformats.org/officeDocument/2006/relationships/hyperlink" Target="http://www.wikipedia.ru/" TargetMode="External"/><Relationship Id="rId3" Type="http://schemas.openxmlformats.org/officeDocument/2006/relationships/hyperlink" Target="http://www.wikipedia.ru/" TargetMode="External"/><Relationship Id="rId4" Type="http://schemas.openxmlformats.org/officeDocument/2006/relationships/hyperlink" Target="http://www.wikipedia.ru/" TargetMode="External"/><Relationship Id="rId5" Type="http://schemas.openxmlformats.org/officeDocument/2006/relationships/hyperlink" Target="http://www.wikipedi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op.mail.ru/jump?from=32823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Русский романтизм первой четверти </a:t>
            </a: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XIX </a:t>
            </a: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века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литературы в 9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ь М.В. Хлебни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Историю русского романтизма принято делить на два периода. Первый заканчивается восстанием декабристов. Романтизм этого периода достиг своей вершины в творчестве А.С.Пушкина, когда он пребывал в южной ссылке. Свобода, в том числе и от деспотических политических режимов, – одна из основных тем «романтического» Пушкина.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Кавказский пленни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Братья разбойники»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Бахчисарайский фонтан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Цыганы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– цикл «южных поэм»). С темой свободы переплетаются мотивы заточения, изгнания. В стихотворении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Узни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создан чисто романтический образ, где даже орел – традиционный символ свободы и силы, мыслится как товарищ лирического героя по несчастью. Завершает период романтизма в творчестве Пушкина стихотворение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К мор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1824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028840" y="30492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щай же, море! Не забуд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воей торжественной красы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 долго, долго слышать буд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вой гул в вечерние часы.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леса, в пустыни молчаливы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енесу, тобою полн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вои скалы, твои заливы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 блеск, и тень, и говор волн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3657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зник (А.Пушки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жу за решеткой в темнице сыро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кормленный в неволе орел молод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й грустный товарищ, махая крылом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вавую пищу клюет под окном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юет, и бросает, и смотрит в окно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 будто со мною задумал одно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овет меня взглядом и криком сво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вымолвить хочет: "Давай улетим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ы вольные птицы; пора, брат, пора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да, где за тучей белеет гор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да, где синеют морские кра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да, где гуляем лишь ветер... да я!..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943240" y="30492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у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чально я гляжу на наше поколенье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го грядущее — иль пусто, иль темно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ж тем, под бременем познанья и сомненья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бездействии состарится оно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гаты мы, едва из колыбел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шибками отцов и поздним их умо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жизнь уж нас томит, как ровный путь без цели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428920" cy="3048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383400"/>
            <a:ext cx="3124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ворчество М.Ю.Лермонтова стало вершиной этого периода. Лирический герой его ранней поэзии – мятежник, бунтарь, личность, которая вступает в битву с судьбой, в битву, исход которой предопределен. Однако эта борьба неизбежна, потому что она и является жизнью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Я жить хочу! хочу печали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 Лирическому герою Лермонтова нет равных среди людей, в нем видны и божественные и демонические черты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ет, я не Байрон, я другой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 Тема одиночества – одна из основных в творчестве Лермонтова, во многом дань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романтиз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Литература и Интернет-ресурс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материалам: </a:t>
            </a: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http://www.krugosvet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http://www.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ahoma"/>
                <a:hlinkClick r:id="rId3"/>
              </a:rPr>
              <a:t>wikipedia</a:t>
            </a: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4"/>
              </a:rPr>
              <a:t>.</a:t>
            </a: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уревич А.М. Романтизм в русской литературе: Пособие для учащихся. – М.: Просвещение. 19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ймин Е.А. О русском романтизме. М., Просвещение, 19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нн Ю.В. Поэтика русского романтизма. М., Наука, 197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028840" y="53352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МАНТИЗМ – (фр. romantisme, от средневекового фр. romant – роман) – направление в искусстве, сформировавшееся в рамках общелитературного течения на рубеже 18–19 вв. в Германии. Получил распространение во всех странах Европы и Америки. Наивысший пик романтизма приходится на первую четверть 19 в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495320" y="38052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. В русской литературе – это борьба классицизма и романтиз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мантизм возник как своего рода реакция на рационализм и оптимизм классицизма ( в основе – разочарование в идеях Просвещени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97600"/>
        </p:xfrm>
        <a:graphic>
          <a:graphicData uri="http://schemas.openxmlformats.org/drawingml/2006/table">
            <a:tbl>
              <a:tblPr/>
              <a:tblGrid>
                <a:gridCol w="3471840"/>
                <a:gridCol w="2038320"/>
                <a:gridCol w="36338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                          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Классицизм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Линия сравне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                  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Сентиментализм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Воспитание человека в духе верности государству, культ раз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Основная ид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Стремление представить человеческую личность                        в движениях ду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Гражданская , обществ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Основная тема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Любо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Строгое деление                           на положительных                                и отрицательных, однолиней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Герои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характ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Отказ от прямолинейности                  в оценке характеров, внимание к простым люд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Вспомогательная, усло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Роль пейзаж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Средство психологической характеристики геро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Трагедия, ода, эпопея; комедия, басня, сат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Основные жан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ff99"/>
                          </a:solidFill>
                          <a:latin typeface="Monotype Corsiva"/>
                        </a:rPr>
                        <a:t>Повесть, путешествие, роман в письмах, дневник, элегия, послание, идил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219320"/>
            <a:ext cx="3124080" cy="1066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438280"/>
            <a:ext cx="312408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876920"/>
            <a:ext cx="32767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791320"/>
            <a:ext cx="3581280" cy="1066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791320"/>
            <a:ext cx="312408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429000"/>
            <a:ext cx="312408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952880"/>
            <a:ext cx="3353040" cy="685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3429000"/>
            <a:ext cx="3276720" cy="1066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438280"/>
            <a:ext cx="32767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1219320"/>
            <a:ext cx="3276720" cy="1066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5715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цвет романтизма в России пришелся на первую треть 19 в., значительный и яркий период русской культуры. Он связан с именами В.А.Жуковского, К.Н.Батюшкова, А.С.Пушкина, М.Ю.Лермонтова, К.Ф.Рылеева, В.К.Кюхельбекера, А.И.Одоевского, Е.А.Баратынского, Н.В.Гогол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ачальный период романтизм тесно переплетается с различными доромантическими влияниями. Так, на вопрос, считать ли Жуковского романтиком, или его творчество принадлежит эпохе сентиментализма, разные исследователи отвечают по-разному. Г.А.Гуковский считал, что тот сентиментализм, из которого «вышел» Жуковский, сентиментализм «карамзинского толка», уже был ранним этапом романтизма. А.Н.Веселовский видит роль Жуковского во внесении в поэтическую систему сентиментализма отдельных романтических элементов и отводит ему место в преддверии русского романтизма. Но как бы ни решался этот вопрос, имя Жуковского тесно связано с эпохой романтизм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А. Жуковский ЦВЕТОК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манс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утная краса поле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ок увядший, одинок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ён ты прелести сво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ю осени жесток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ы! нам тот же дан уд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от же рок нас угнет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ебя листочек облетел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нас веселье отлет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ъемлет каждый день у н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мечту, иль наслажден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аждый разрушает ч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агое сердцу заблуждень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три... очарованья не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езда надежды угасает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ы! кто скажет: жизнь иль цв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ее в мире исчезает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2000" spc="-1" strike="noStrike" u="sng">
                <a:solidFill>
                  <a:srgbClr val="0099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979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центре – лич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конфликт – конфликт между личностью и обще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нтическая личность – это прежде всего страстная лич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нтический герой – сильный  - сильный характер, на голову выше окружающи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Comic Sans MS"/>
              </a:rPr>
              <a:t>Основные черт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тверждение человеческой индивидуа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згляд на жизнь «сквозь призму сердца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нтерес ко всему необычному, сильному, ярко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Мучительное переживание разлада с действительность (мечта – действительност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ремление личности к абсолютной свободе, недостижимому идеал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гарита</cp:lastModifiedBy>
  <dcterms:modified xsi:type="dcterms:W3CDTF">2010-03-29T12:14:3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